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DFAA-5DC4-4AFC-8877-D1CFE21C08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3459-22BA-4755-B2C5-DF64AEF2E5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96FC-FA80-4D62-9000-6116957A15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7A14-2E0B-4494-BB8A-2C3595EC1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03E3-0ABB-4F14-9125-2C1966B9B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9FAE-B8BA-4C53-BF98-25888D1D24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CE11-F118-4227-8FD2-EC1177362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FF1F-E135-4637-A9A6-DDCEB66FB6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A4A7-434A-408B-BFBD-E1ABADBFB2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9EFC-D8DE-4402-9362-BBD0BA3ED8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3B51-FEF2-4008-9583-733FA639CD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0861-FE05-4673-997F-4E06063BF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914E-19C0-4D30-8333-21A02AB4B9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EAE3-211F-47C3-BC7D-5B22E3461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5F95-9490-482B-8F4A-4FDC3CF6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CFBF-5DCB-4B09-93E9-8203B09A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4900-7697-4FE7-9BF6-D69C57E2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3345-256D-4DDE-A8FC-6FDE61D6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8AA2-716F-4CCA-9635-52CCB47E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84C5-AF74-47DB-9C82-C27C0363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6628-FD2E-413B-A590-F6F6D0D2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ED42-C212-4D99-8AA7-ADFF6D50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CA55-07D7-4F2A-8059-E6C4A344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3BEE-C349-4140-8173-361DA78B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4B1D-F563-440A-BB15-C5FA85F6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FFA8-E54F-42C9-8ECB-39FAEF20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919B-135E-43F3-8AD9-F4FFB8B6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273E-5C26-4371-AFB4-C9B5C236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4CB6-28B6-46A2-BCC7-4C6F77F0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BBC8-8C0B-4036-995E-E06CD132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FF8E-D55D-46DF-832D-5F7A66C5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CF88E-0F83-44B5-BCE1-DC1D46C6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7DE4EB-32EB-45DD-9B65-16522B26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6DD2C3-CBE6-42B8-B18B-DE0AAA89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06066D-087B-4E80-BE5C-EB723B5D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322E7-C62A-4C81-AC3C-93AEACDD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478B-C536-4F91-98C6-05A958C8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25FA5D-7FC3-400C-9010-E69A477B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42635B-44DE-435D-BB77-40F3B1A6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65047E-E34F-4B26-9904-D2E071CD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45D6C-7051-45F4-963A-B507770C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80C98-25B7-4AC2-B13F-8EBBA332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BCE7E-3F2A-4AE4-A783-ADD9D56C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BAC0C-8337-4E78-8214-CA2D7942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5A735-B0BE-4757-8C40-3F0A5737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9A106-1120-457C-946C-A060DCB9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BF08C-EF1B-4503-95B6-9AA1E0DD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F9AE-C9FA-4AB3-9FB6-997AF317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CB16D-09C6-4AB6-B6FB-59FA19FD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BC3DB-1411-48D2-BE32-6C88D67E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CF45F-B5BC-4417-917D-E00D931A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881F4-BC2F-47EF-A828-D1C83B3F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50B2B-40AF-4B16-BBE6-3AE7E3EE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9FCEB-7A67-4D04-8AE2-A400EE69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7E2B8-FE80-44A0-9034-3AE48795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5EEAA-7D23-4165-BF7E-CBBDD37A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09AC2-5DB2-468B-A856-3854B73D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1E4732-E8CA-49B7-9B0E-45D2BABB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FB65-0E68-4297-86D3-DF182357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112AD8-0C4D-4DCC-89B7-1EF87519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6FB1CC-B795-439A-8108-7425CE6A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EA5D64-24E1-4406-934B-9A40E9FA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CBA62E-B75D-40AB-B77F-18482D17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AEF5E3-0C40-41C1-8D90-CC1BA47F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4DD42D-6BC3-4C51-9913-34A4CDB1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DC407F-50CF-4BCE-BE83-0389D5FC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C4DC88-71D7-46CE-ADEF-BF3E24A6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703CF6-6597-41A1-ADAB-ACFF01C5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5BC91B-6F5C-4085-AD36-71CA16AC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023D-8164-4324-8671-61D48E6D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17FE43-FF55-44F9-B9E9-051A1AAB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B617CF-5742-4065-9A0D-4AF54C3E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344B24-BE87-4FA3-9FB4-8B1F4CCB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E160C4-BAE6-4957-9227-5391CD83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ED98C2-713D-4911-9E79-2CACA5F3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15E62E-16D9-4810-A9F3-E03FEA03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0E0964-B31B-41CE-91F8-0E9BE535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1F2759-1596-46F4-BBF7-042E82C8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F47D4F-777C-40D9-9F75-70BE72AF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FBBFF0-8F19-43DC-AFD5-086B86BE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1D7B-3518-474D-8B64-368F6567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502FCA-4803-4196-B0F6-9E327F3E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3935AB-7384-439B-91C1-670B4C26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D31F4B-5D10-406E-81EC-528DB715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DB9AEA-AE12-467D-88F5-B96B1432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84A236-1321-4389-A518-533D860E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B0F27E-7588-4BE7-A725-F872FB3F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BE0F1E-74CC-4C84-AB86-5B74230F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1D5DF4-9B8D-4B5D-AC43-E5EEE14D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8EAF86-DAE3-4BF3-B927-AAE7D6E3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31591D-94B4-4586-B692-12FA4947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E686-D04B-4B9D-91A4-CB7FA4E7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171C6C-2292-4536-98A0-0001746D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3E2155-6BD2-4C64-8F72-1E694730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5E0D93-F998-44A7-A890-E1D2F3FA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ED496A-811A-4143-90AD-E5C85158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496976-4875-4923-A2C0-CA76C40D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2E20-B27D-4DA6-AC8D-AE31FB12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23F2-364B-4945-9D47-63FC8713107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2E2C-8FA0-4344-8F43-B871CBF5D8C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430F-3311-49AB-B74A-BC4EF10B6DA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FB91-CE53-4880-B704-6A6127BC9FE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9361-C3A9-448E-BD4F-B56C6B037D8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EFDC-85C3-44A0-84B9-E15B62207F2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E915-F5D8-4872-AEAD-DABA9B9D641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1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HEADING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lude all group members’ nam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10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FAVORITE SCENE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avorite passage/scene- choose your favorite quotation or passage from the book .  Explain what is happening and why this is your favorite scene/passage (include page number and picture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ACH GROUP MEMBER NEEDS A DIFFERENT SCENE TO EXPLAIN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11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TATEMENT OF VALUE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atement of value-State what you gained/learned/discovered of personal value by reading this book.  Include the theme in this explana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ACH GROUP MEMBER NEEDS THEIR OWN ANSWER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12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HOLDEN’S SONG OR BOOK REVIEW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294920"/>
            <a:ext cx="815328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lden’s So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py Lyrics that would represent Holden and who he is (try to add the song to the powerpoint or bring in the CD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planation of how tone of music and lyrics parallel and support Holden’s thoughts, moods, choices and the aftereffects and consequences of those choic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ook review- write a 1 paragraph review as if you were a literary critic.  Would you recommend this book to others to read?  Why or why no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esent it as a literary criti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FINAL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YOUR CHOICE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oose how you would like to end your presentation (not on slide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ST BE A CREATIVE END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2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AUTHOR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*Explain who J.D Salinger is (at least 3 facts about him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lude picture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LIDE 3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OCABULA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*vocabulary- select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vocabulary words from the book.  Copy the sentence and page number where they appear.  Provide the definition as well as word orig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4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UMMARY &amp; TITLE EXPLANATION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e a brief summary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he Catcher in the Ry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plain the titl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he Catcher in the Ry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5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ME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plain the them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he Catcher in the Ry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6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FIGURATIVE LANGUAGE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gurative language- find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examples of figurative language (ex: imagery, personification, symbolism, etc).  Explain the figurative language and why the author uses th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member page #s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7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CHARACTERIZATION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alyze one of the characters from the stor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scribe them physically and mentally, and write how they affect and/or add meaning to the story or to Holden’s life.  Pick a quote from the story which describes the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n’t forget page number and a picture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8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DOG POOP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alyze Holden’s Dog Poop (explain what it is and how he handles it- if he handles i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ick one quote from the story to represent his dog poop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n’t forget page numb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9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YMBOLISM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plain what two of the following symbols represent (red hat, Pency Prep, Central Park, the ducks, Allie’s glove, unmade phone calls, movies, other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* THIS IS YOUR INTERPRETATION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4:45:55Z</dcterms:created>
  <dc:creator>nvasquez</dc:creator>
  <dc:description/>
  <dc:language>en-US</dc:language>
  <cp:lastModifiedBy>Nvasquez</cp:lastModifiedBy>
  <dcterms:modified xsi:type="dcterms:W3CDTF">2010-09-29T18:21:32Z</dcterms:modified>
  <cp:revision>13</cp:revision>
  <dc:subject/>
  <dc:title>SLIDE 1 Author</dc:title>
</cp:coreProperties>
</file>